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1240" y="6424560"/>
            <a:ext cx="55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October 22 to 24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3C06C00-8A5A-46DA-8B86-B7A6C1B5438F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m-xml.org/DS-XML/DS-XML_xml/index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1768320"/>
            <a:ext cx="5905440" cy="1729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341360"/>
            <a:ext cx="5905440" cy="398880"/>
          </a:xfrm>
          <a:prstGeom prst="rect">
            <a:avLst/>
          </a:prstGeom>
          <a:solidFill>
            <a:srgbClr val="0000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WIPO/SDWG - XML Task Forces’ Inform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3137040"/>
            <a:ext cx="5845320" cy="3819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00"/>
                </a:solidFill>
                <a:latin typeface="Times New Roman"/>
                <a:ea typeface="Lucida Sans Unicode"/>
              </a:rPr>
              <a:t>WIPO-Geneva, 22</a:t>
            </a:r>
            <a:r>
              <a:rPr b="0" lang="en-IE" sz="1600" spc="-1" strike="noStrike" baseline="30000">
                <a:solidFill>
                  <a:srgbClr val="003300"/>
                </a:solidFill>
                <a:latin typeface="Times New Roman"/>
                <a:ea typeface="Lucida Sans Unicode"/>
              </a:rPr>
              <a:t>th</a:t>
            </a:r>
            <a:r>
              <a:rPr b="0" lang="en-IE" sz="1600" spc="-1" strike="noStrike">
                <a:solidFill>
                  <a:srgbClr val="003300"/>
                </a:solidFill>
                <a:latin typeface="Times New Roman"/>
                <a:ea typeface="Lucida Sans Unicode"/>
              </a:rPr>
              <a:t>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055960"/>
            <a:ext cx="5844960" cy="93492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00"/>
                </a:solidFill>
                <a:latin typeface="Times New Roman"/>
                <a:ea typeface="Lucida Sans Unicode"/>
              </a:rPr>
              <a:t>ST.86 Draft – XML Dictionary, Model Schema &amp; Class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200" y="5373720"/>
            <a:ext cx="27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Times New Roman"/>
              </a:rPr>
              <a:t>Alexandre.Tran@oami.europa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60066"/>
                </a:solidFill>
                <a:latin typeface="Times New Roman"/>
              </a:rPr>
              <a:t>Head of IT Archite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60066"/>
                </a:solidFill>
                <a:latin typeface="Times New Roman"/>
              </a:rPr>
              <a:t>&amp; Standards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773360"/>
            <a:ext cx="8496000" cy="4105080"/>
          </a:xfrm>
          <a:prstGeom prst="rect">
            <a:avLst/>
          </a:prstGeom>
          <a:solidFill>
            <a:srgbClr val="ffc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8720" y="915840"/>
            <a:ext cx="49658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70400" y="2709720"/>
            <a:ext cx="5205240" cy="681120"/>
          </a:xfrm>
          <a:prstGeom prst="rect">
            <a:avLst/>
          </a:prstGeom>
          <a:solidFill>
            <a:srgbClr val="c2ecff"/>
          </a:solidFill>
          <a:ln w="9360">
            <a:solidFill>
              <a:srgbClr val="ffffff"/>
            </a:solidFill>
            <a:miter/>
          </a:ln>
          <a:effectLst>
            <a:outerShdw dist="101727" dir="23898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0560" y="2705040"/>
            <a:ext cx="685800" cy="685800"/>
          </a:xfrm>
          <a:prstGeom prst="diamond">
            <a:avLst/>
          </a:prstGeom>
          <a:solidFill>
            <a:srgbClr val="372d9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4520" y="2879640"/>
            <a:ext cx="4819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ST.86 Draft: Re-use of ST.66 Compo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0600" y="280368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3713040"/>
            <a:ext cx="5203800" cy="685800"/>
          </a:xfrm>
          <a:prstGeom prst="rect">
            <a:avLst/>
          </a:prstGeom>
          <a:solidFill>
            <a:srgbClr val="c2ecff"/>
          </a:solidFill>
          <a:ln w="9360">
            <a:solidFill>
              <a:srgbClr val="ffffff"/>
            </a:solidFill>
            <a:miter/>
          </a:ln>
          <a:effectLst>
            <a:outerShdw dist="101727" dir="23898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0560" y="3713040"/>
            <a:ext cx="685800" cy="685800"/>
          </a:xfrm>
          <a:prstGeom prst="diamond">
            <a:avLst/>
          </a:prstGeom>
          <a:solidFill>
            <a:srgbClr val="372d9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4520" y="3887640"/>
            <a:ext cx="4178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be0017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be0017"/>
                </a:solidFill>
                <a:latin typeface="Arial"/>
                <a:ea typeface="Arial"/>
              </a:rPr>
              <a:t>ST.86 Draft Dictiona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60600" y="381168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70400" y="4759200"/>
            <a:ext cx="5203800" cy="648000"/>
          </a:xfrm>
          <a:prstGeom prst="rect">
            <a:avLst/>
          </a:prstGeom>
          <a:solidFill>
            <a:srgbClr val="c2ecff"/>
          </a:solidFill>
          <a:ln w="9360">
            <a:solidFill>
              <a:srgbClr val="ffffff"/>
            </a:solidFill>
            <a:miter/>
          </a:ln>
          <a:effectLst>
            <a:outerShdw dist="101727" dir="23898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0560" y="4759200"/>
            <a:ext cx="685800" cy="685800"/>
          </a:xfrm>
          <a:prstGeom prst="diamond">
            <a:avLst/>
          </a:prstGeom>
          <a:solidFill>
            <a:srgbClr val="372d9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90800" y="4933800"/>
            <a:ext cx="4229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be0017"/>
                </a:solidFill>
                <a:latin typeface="Arial"/>
                <a:ea typeface="Arial"/>
              </a:rPr>
              <a:t>Q &amp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0600" y="485784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501040" cy="505080"/>
          </a:xfrm>
          <a:prstGeom prst="rect">
            <a:avLst/>
          </a:prstGeom>
          <a:solidFill>
            <a:srgbClr val="e2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877000"/>
            <a:ext cx="8501040" cy="574560"/>
          </a:xfrm>
          <a:prstGeom prst="rect">
            <a:avLst/>
          </a:prstGeom>
          <a:solidFill>
            <a:srgbClr val="e2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440" y="1739880"/>
            <a:ext cx="842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.86 Draft – XML Dictionary, Model Schema &amp; Class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1640" y="6116760"/>
            <a:ext cx="25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eneva, 2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5600" y="2581200"/>
            <a:ext cx="2390760" cy="293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86: Re-use of ST.66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040" y="2494080"/>
            <a:ext cx="3721320" cy="3671640"/>
          </a:xfrm>
          <a:prstGeom prst="rect">
            <a:avLst/>
          </a:prstGeom>
          <a:solidFill>
            <a:srgbClr val="cc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276640"/>
            <a:ext cx="3743280" cy="317160"/>
          </a:xfrm>
          <a:prstGeom prst="roundRect">
            <a:avLst>
              <a:gd name="adj" fmla="val 3569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WIPO ST.66 Version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523960"/>
            <a:ext cx="3743280" cy="505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653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WIPO ST.66 Main P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97360"/>
            <a:ext cx="374328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068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A – ST.66 Data Dictio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500280"/>
            <a:ext cx="3743280" cy="505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57336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B – XML Sch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005360"/>
            <a:ext cx="374328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076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C – Class Diagr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5440" y="5013360"/>
            <a:ext cx="374184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084640"/>
            <a:ext cx="35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E – ST.36 Compatibility 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5440" y="1557000"/>
            <a:ext cx="3598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WIPO Standard ST.66</a:t>
            </a:r>
            <a:br>
              <a:rPr sz="17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Recommendation for the Processing of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Trademark Information Using X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508640"/>
            <a:ext cx="3743280" cy="504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458136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D – </a:t>
            </a: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List of Acronyms &amp; Abbreviations</a:t>
            </a: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4000" y="5587920"/>
            <a:ext cx="3816360" cy="505080"/>
            <a:chOff x="324000" y="5587920"/>
            <a:chExt cx="3816360" cy="505080"/>
          </a:xfrm>
        </p:grpSpPr>
        <p:sp>
          <p:nvSpPr>
            <p:cNvPr id="86" name=""/>
            <p:cNvSpPr/>
            <p:nvPr/>
          </p:nvSpPr>
          <p:spPr>
            <a:xfrm>
              <a:off x="324000" y="5587920"/>
              <a:ext cx="3741480" cy="505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645160"/>
              <a:ext cx="38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Guideline for Implementation of Schem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100480" y="2494080"/>
            <a:ext cx="3721320" cy="3671640"/>
          </a:xfrm>
          <a:prstGeom prst="rect">
            <a:avLst/>
          </a:prstGeom>
          <a:solidFill>
            <a:srgbClr val="3333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5440" y="2276640"/>
            <a:ext cx="3743280" cy="317160"/>
          </a:xfrm>
          <a:prstGeom prst="roundRect">
            <a:avLst>
              <a:gd name="adj" fmla="val 3569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WIPO ST.86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2523960"/>
            <a:ext cx="3743280" cy="505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5440" y="25653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WIPO ST.66 Main P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6880" y="5013360"/>
            <a:ext cx="3741840" cy="504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5084640"/>
            <a:ext cx="35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E – ST.36 Compatibility 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6880" y="1557000"/>
            <a:ext cx="3598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WIPO Standard ST.86 Draft</a:t>
            </a:r>
            <a:br>
              <a:rPr sz="17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Recommendation for the Processing of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Stone Sans ITC TT-Semi"/>
              </a:rPr>
              <a:t>Industrial Design Information Using X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5440" y="4508640"/>
            <a:ext cx="3743280" cy="504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5440" y="5587920"/>
            <a:ext cx="3741840" cy="505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5440" y="458136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Appendix D – </a:t>
            </a:r>
            <a:r>
              <a:rPr b="0" lang="en-IE" sz="1200" spc="-1" strike="noStrike">
                <a:solidFill>
                  <a:srgbClr val="000066"/>
                </a:solidFill>
                <a:latin typeface="Comic Sans MS"/>
              </a:rPr>
              <a:t>List of Acronyms &amp; Abbreviations</a:t>
            </a: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5440" y="564516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66"/>
                </a:solidFill>
                <a:latin typeface="Comic Sans MS"/>
              </a:rPr>
              <a:t>Guideline for Implementation of Sch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2781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11640" y="4724280"/>
            <a:ext cx="647640" cy="1081080"/>
            <a:chOff x="4211640" y="4724280"/>
            <a:chExt cx="647640" cy="1081080"/>
          </a:xfrm>
        </p:grpSpPr>
        <p:sp>
          <p:nvSpPr>
            <p:cNvPr id="101" name=""/>
            <p:cNvSpPr/>
            <p:nvPr/>
          </p:nvSpPr>
          <p:spPr>
            <a:xfrm>
              <a:off x="4211640" y="472428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640" y="5229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11640" y="5805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211640" y="2997360"/>
            <a:ext cx="4537080" cy="1512720"/>
            <a:chOff x="4211640" y="2997360"/>
            <a:chExt cx="4537080" cy="1512720"/>
          </a:xfrm>
        </p:grpSpPr>
        <p:sp>
          <p:nvSpPr>
            <p:cNvPr id="105" name=""/>
            <p:cNvSpPr/>
            <p:nvPr/>
          </p:nvSpPr>
          <p:spPr>
            <a:xfrm>
              <a:off x="5005440" y="2997360"/>
              <a:ext cx="3743280" cy="50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05440" y="3068640"/>
              <a:ext cx="35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Appendix A – ST.86 Data Dictiona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05440" y="3500280"/>
              <a:ext cx="3743280" cy="505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5440" y="3573360"/>
              <a:ext cx="35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Appendix B – ST.86 XML Schem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05440" y="4005360"/>
              <a:ext cx="3743280" cy="50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5440" y="4076640"/>
              <a:ext cx="35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66"/>
                  </a:solidFill>
                  <a:latin typeface="Comic Sans MS"/>
                </a:rPr>
                <a:t>Appendix C – ST.86 Class Diagram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11640" y="3213000"/>
              <a:ext cx="647640" cy="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11640" y="3716280"/>
              <a:ext cx="647640" cy="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11640" y="4221000"/>
              <a:ext cx="647640" cy="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771640" y="2276640"/>
            <a:ext cx="1152720" cy="317160"/>
          </a:xfrm>
          <a:prstGeom prst="roundRect">
            <a:avLst>
              <a:gd name="adj" fmla="val 356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756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Comic Sans MS"/>
              </a:rPr>
              <a:t>+ Re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86 Draft Dictiona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1989000"/>
            <a:ext cx="1676520" cy="51624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20113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ST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560680"/>
            <a:ext cx="1676520" cy="65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2617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3209760"/>
            <a:ext cx="1676520" cy="65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26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7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3857760"/>
            <a:ext cx="1676520" cy="65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391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505400"/>
            <a:ext cx="1676520" cy="65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456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3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680" y="2560680"/>
            <a:ext cx="2475000" cy="64908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1840" y="2617920"/>
            <a:ext cx="23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2240" y="3208320"/>
            <a:ext cx="2474640" cy="64944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0040" y="326556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855960"/>
            <a:ext cx="2475000" cy="64944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7440" y="391320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505400"/>
            <a:ext cx="2475000" cy="64908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7440" y="4562640"/>
            <a:ext cx="25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66"/>
                </a:solidFill>
                <a:latin typeface="Comic Sans MS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5299200"/>
            <a:ext cx="1676520" cy="650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5356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66"/>
                </a:solidFill>
                <a:latin typeface="Comic Sans MS"/>
              </a:rPr>
              <a:t>12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299200"/>
            <a:ext cx="2475000" cy="649080"/>
          </a:xfrm>
          <a:prstGeom prst="rect">
            <a:avLst/>
          </a:prstGeom>
          <a:solidFill>
            <a:srgbClr val="003300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7440" y="5014800"/>
            <a:ext cx="2554200" cy="1739880"/>
            <a:chOff x="217440" y="5014800"/>
            <a:chExt cx="2554200" cy="1739880"/>
          </a:xfrm>
        </p:grpSpPr>
        <p:sp>
          <p:nvSpPr>
            <p:cNvPr id="139" name=""/>
            <p:cNvSpPr/>
            <p:nvPr/>
          </p:nvSpPr>
          <p:spPr>
            <a:xfrm>
              <a:off x="217440" y="5356440"/>
              <a:ext cx="255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66"/>
                  </a:solidFill>
                  <a:latin typeface="Comic Sans MS"/>
                </a:rPr>
                <a:t>Total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57080" y="5014800"/>
              <a:ext cx="898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5400" spc="-1" strike="noStrike">
                  <a:solidFill>
                    <a:srgbClr val="ffff66"/>
                  </a:solidFill>
                  <a:latin typeface="Comic Sans MS"/>
                </a:rPr>
                <a:t>…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86160" y="1989000"/>
            <a:ext cx="1746360" cy="3960720"/>
            <a:chOff x="4286160" y="1989000"/>
            <a:chExt cx="1746360" cy="3960720"/>
          </a:xfrm>
        </p:grpSpPr>
        <p:sp>
          <p:nvSpPr>
            <p:cNvPr id="142" name=""/>
            <p:cNvSpPr/>
            <p:nvPr/>
          </p:nvSpPr>
          <p:spPr>
            <a:xfrm>
              <a:off x="4356000" y="1989000"/>
              <a:ext cx="1676520" cy="51588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6000" y="20541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66"/>
                  </a:solidFill>
                  <a:latin typeface="Comic Sans MS"/>
                </a:rPr>
                <a:t>ST.66 Re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6000" y="2560680"/>
              <a:ext cx="167652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6000" y="26175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3209760"/>
              <a:ext cx="1676520" cy="65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6000" y="32670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8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6000" y="3857400"/>
              <a:ext cx="167652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56000" y="391464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56000" y="4505400"/>
              <a:ext cx="1676520" cy="650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56000" y="4562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48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56000" y="5298840"/>
              <a:ext cx="1676520" cy="650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6000" y="53560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50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89760" y="2509560"/>
              <a:ext cx="58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6520" y="3159000"/>
              <a:ext cx="58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7600" y="38131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   </a:t>
              </a: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86160" y="4460760"/>
              <a:ext cx="63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1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6160" y="5252760"/>
              <a:ext cx="63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cc0000"/>
                  </a:solidFill>
                  <a:latin typeface="Arial"/>
                </a:rPr>
                <a:t>+23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082560" y="1989000"/>
            <a:ext cx="2810520" cy="3961080"/>
            <a:chOff x="6082560" y="1989000"/>
            <a:chExt cx="2810520" cy="3961080"/>
          </a:xfrm>
        </p:grpSpPr>
        <p:sp>
          <p:nvSpPr>
            <p:cNvPr id="160" name=""/>
            <p:cNvSpPr/>
            <p:nvPr/>
          </p:nvSpPr>
          <p:spPr>
            <a:xfrm>
              <a:off x="6135840" y="1989000"/>
              <a:ext cx="2757240" cy="51624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35840" y="2054160"/>
              <a:ext cx="26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66"/>
                  </a:solidFill>
                  <a:latin typeface="Comic Sans MS"/>
                </a:rPr>
                <a:t>ST.86 Dra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5840" y="2560680"/>
              <a:ext cx="275724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35840" y="261792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35840" y="3209760"/>
              <a:ext cx="2757240" cy="65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35840" y="326700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6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5840" y="3857760"/>
              <a:ext cx="2757240" cy="650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35840" y="391464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5840" y="4505400"/>
              <a:ext cx="2757240" cy="65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35840" y="456264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37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35840" y="5299200"/>
              <a:ext cx="2757240" cy="650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5840" y="53560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66"/>
                  </a:solidFill>
                  <a:latin typeface="Comic Sans MS"/>
                </a:rPr>
                <a:t>113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2560" y="272556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Arial"/>
                </a:rPr>
                <a:t>~</a:t>
              </a: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 30 (23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9040" y="25430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76 (60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28640" y="348444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16 (19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9840" y="326880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504 (81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29720" y="413244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 (8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00200" y="39164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1 (92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8640" y="47800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131 (35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9840" y="456408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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246 (65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6160" y="295272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IE" sz="1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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IE" sz="1400" spc="-1" strike="noStrike">
                  <a:solidFill>
                    <a:srgbClr val="cc0000"/>
                  </a:solidFill>
                  <a:latin typeface="Arial"/>
                </a:rPr>
                <a:t>22 (17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445400" y="17733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Re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38200" y="1989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~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Ada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59800" y="222876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IE" sz="1600" spc="-1" strike="noStrike">
                <a:solidFill>
                  <a:srgbClr val="cc0000"/>
                </a:solidFill>
                <a:latin typeface="Wingdings 2"/>
                <a:ea typeface="Wingdings 2"/>
              </a:rPr>
              <a:t>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2766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ff66"/>
                </a:solidFill>
                <a:latin typeface="Arial"/>
              </a:rPr>
              <a:t>TM-XML 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44640"/>
            <a:ext cx="3744720" cy="3500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971640" y="362736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233960" y="1700280"/>
            <a:ext cx="4586040" cy="3957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16000" y="4149720"/>
            <a:ext cx="2016000" cy="647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22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Alexandre TRAN</cp:lastModifiedBy>
  <dcterms:modified xsi:type="dcterms:W3CDTF">2007-10-23T05:15:55Z</dcterms:modified>
  <cp:revision>44</cp:revision>
  <dc:subject/>
  <dc:title>Slide 1</dc:title>
</cp:coreProperties>
</file>